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1A8-BFF1-4F65-8C1B-1200CA87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F61-1949-4E36-91EC-3F2A1448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E16-27B7-40EC-82C4-A71583DC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200-900F-416E-95E7-689E6467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F66-AD70-4E15-81EC-07B854D9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E5D-1065-4386-8768-F1B488D8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B4D-826D-427A-B290-FD6F0C1F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7E2-B6CB-4A5D-803F-F3688E3F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15D-D3AE-4383-BDE8-C415B2CA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6B7-264E-4A1A-AFDF-1DD2CA70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C2B-8F0E-4DA2-BB83-19C16A8A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670-F7D6-4D41-8A5D-4826CF5E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91AB-F35F-4658-88ED-F1514238F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ional develop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faculty and future facult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to transform our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4343400" cy="341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2240" y="213372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Seminarcolepsy        To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Bio2010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(2003) National Research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s for new biology curricula that better reflect the nature of sc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ional Academies Summer Institute on Undergraduate Biolog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science in a way that represents the process and nature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ndelsman et al., 2004 Science 304:521-52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WVU Summer Institute on Undergraduate Math and Science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is ain’t ya mama’s education worksho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9155" t="38693" r="18084" b="5127"/>
          <a:stretch/>
        </p:blipFill>
        <p:spPr>
          <a:xfrm>
            <a:off x="2362320" y="365760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397160"/>
          <a:ext cx="8610120" cy="1117440"/>
        </p:xfrm>
        <a:graphic>
          <a:graphicData uri="http://schemas.openxmlformats.org/drawingml/2006/table">
            <a:tbl>
              <a:tblPr/>
              <a:tblGrid>
                <a:gridCol w="1435320"/>
                <a:gridCol w="1434960"/>
                <a:gridCol w="1434600"/>
                <a:gridCol w="1434960"/>
                <a:gridCol w="1434960"/>
                <a:gridCol w="143532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4052160" y="7621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240" y="2793960"/>
            <a:ext cx="14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4840" y="2870280"/>
            <a:ext cx="186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osing 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/alum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962160" y="914400"/>
            <a:ext cx="1447920" cy="5105160"/>
          </a:xfrm>
          <a:custGeom>
            <a:avLst/>
            <a:gdLst>
              <a:gd name="textAreaLeft" fmla="*/ 925200 w 1447920"/>
              <a:gd name="textAreaRight" fmla="*/ 1448280 w 144792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379760"/>
            <a:ext cx="352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392720"/>
            <a:ext cx="8839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rning interactive worksh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kward Design, Assessment, Active Learning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versity, Integrating across the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fternoon Group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reate teaching materials to implement back h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my experience help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artmental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al institutes (STEM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3:40:05Z</dcterms:created>
  <dc:creator>michelle</dc:creator>
  <dc:description/>
  <dc:language>en-US</dc:language>
  <cp:lastModifiedBy>michelle</cp:lastModifiedBy>
  <dcterms:modified xsi:type="dcterms:W3CDTF">2011-03-12T17:15:26Z</dcterms:modified>
  <cp:revision>180</cp:revision>
  <dc:subject/>
  <dc:title>Example of Scientific Teaching</dc:title>
</cp:coreProperties>
</file>